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BCCC-6B35-4BFA-8C39-671FBDBB5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5D32-0E04-4FC3-B6DE-9F2B97C3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4446-CDA1-4F0C-9B0D-0D8A7A416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0FE3-0236-4B28-A4E5-C38F04180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27C6-BAC6-4017-9DB8-E4C910E0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C6A6-0D35-43AE-B39E-4A47E7ED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5203-DC2D-41BC-AB3D-0E5AD841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2E6B-8B92-4AFB-945C-75B0863E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BDFF-A340-4EFC-A202-7401DC7D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05A6-2F8A-403E-9821-588729A2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74A9-A843-4381-8AD6-35627F43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752A-B728-4FF1-8751-5F790B3E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0314-CA08-45EE-91D9-F9018170CF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843280" y="2060640"/>
            <a:ext cx="2714760" cy="1774800"/>
            <a:chOff x="2843280" y="2060640"/>
            <a:chExt cx="2714760" cy="1774800"/>
          </a:xfrm>
        </p:grpSpPr>
        <p:sp>
          <p:nvSpPr>
            <p:cNvPr id="42" name=""/>
            <p:cNvSpPr/>
            <p:nvPr/>
          </p:nvSpPr>
          <p:spPr>
            <a:xfrm>
              <a:off x="4380120" y="337968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868840" y="287496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660840" y="287496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80120" y="22986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100840" y="287496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843280" y="283824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635280" y="283824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354560" y="334332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354560" y="226224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075280" y="283824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47" idx="6"/>
              <a:endCxn id="48" idx="2"/>
            </p:cNvCxnSpPr>
            <p:nvPr/>
          </p:nvCxnSpPr>
          <p:spPr>
            <a:xfrm>
              <a:off x="3203640" y="3018600"/>
              <a:ext cx="43200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3" name=""/>
            <p:cNvCxnSpPr>
              <a:stCxn id="48" idx="7"/>
              <a:endCxn id="50" idx="3"/>
            </p:cNvCxnSpPr>
            <p:nvPr/>
          </p:nvCxnSpPr>
          <p:spPr>
            <a:xfrm flipV="1">
              <a:off x="3943080" y="2570040"/>
              <a:ext cx="464400" cy="321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" name=""/>
            <p:cNvCxnSpPr>
              <a:stCxn id="48" idx="5"/>
              <a:endCxn id="49" idx="1"/>
            </p:cNvCxnSpPr>
            <p:nvPr/>
          </p:nvCxnSpPr>
          <p:spPr>
            <a:xfrm>
              <a:off x="3943080" y="3146040"/>
              <a:ext cx="464400" cy="25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5" name=""/>
            <p:cNvCxnSpPr>
              <a:stCxn id="49" idx="7"/>
              <a:endCxn id="51" idx="3"/>
            </p:cNvCxnSpPr>
            <p:nvPr/>
          </p:nvCxnSpPr>
          <p:spPr>
            <a:xfrm flipV="1">
              <a:off x="4662360" y="3146040"/>
              <a:ext cx="465840" cy="25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6" name=""/>
            <p:cNvCxnSpPr>
              <a:stCxn id="50" idx="5"/>
              <a:endCxn id="51" idx="1"/>
            </p:cNvCxnSpPr>
            <p:nvPr/>
          </p:nvCxnSpPr>
          <p:spPr>
            <a:xfrm>
              <a:off x="4662360" y="2570040"/>
              <a:ext cx="465840" cy="321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7" name=""/>
            <p:cNvSpPr/>
            <p:nvPr/>
          </p:nvSpPr>
          <p:spPr>
            <a:xfrm>
              <a:off x="3040920" y="26431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728520" y="25509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92160" y="2060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44360" y="35589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292000" y="2622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737640" y="7128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06:45:31Z</dcterms:created>
  <dc:creator>Hugh Lewis</dc:creator>
  <dc:description/>
  <dc:language>en-US</dc:language>
  <cp:lastModifiedBy>Hugh Lewis</cp:lastModifiedBy>
  <dcterms:modified xsi:type="dcterms:W3CDTF">2009-01-31T14:50:42Z</dcterms:modified>
  <cp:revision>24</cp:revision>
  <dc:subject/>
  <dc:title>Slide 1</dc:title>
</cp:coreProperties>
</file>